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90085"/>
        <c:axId val="67029215"/>
      </c:barChart>
      <c:catAx>
        <c:axId val="63690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29215"/>
        <c:crosses val="autoZero"/>
        <c:auto val="1"/>
        <c:lblAlgn val="ctr"/>
        <c:lblOffset val="100"/>
        <c:noMultiLvlLbl val="0"/>
      </c:catAx>
      <c:valAx>
        <c:axId val="67029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0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F53-E0B3-4A76-B6B6-823A19A1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431-0C42-4DFF-B955-A144F81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8A0-3472-49F7-8BC0-2D052D50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E37-B1EE-4A36-8D98-870082DC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716-E566-489A-B972-16B1C5E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84F-2C57-42CB-8699-35EEE19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FE2-8E9B-423E-8E58-1515A9C9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1F2-4593-4EAC-9894-421E4F73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465-FA2F-46B1-8B11-E35330CE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C63-93F3-4D17-B7B3-AA1DFD6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EA9-5530-4D5E-9E20-212A5AB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EFC-F44B-45B8-957A-84866DB8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CF08-9354-454A-A000-06A8C1DFC9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