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34262"/>
        <c:axId val="65779581"/>
      </c:barChart>
      <c:catAx>
        <c:axId val="24342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779581"/>
        <c:crosses val="autoZero"/>
        <c:auto val="1"/>
        <c:lblAlgn val="ctr"/>
        <c:lblOffset val="100"/>
        <c:noMultiLvlLbl val="0"/>
      </c:catAx>
      <c:valAx>
        <c:axId val="657795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342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AC39-D84A-4246-B44C-C88C28F1B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ED7E-3343-415C-B4B4-898636F1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15E6-4CD5-443D-A40F-97C5087F3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5647-61C4-474D-8B98-AD56A64B1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D348-729D-441A-B28F-1A2E5C63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730F-D322-4441-B6D5-5C391532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1C40-2032-4665-A565-B6B03BB6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2CD2-E178-4356-BDFA-7D1C04EC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AC60-80C7-4EE6-AE16-9B6C6F6C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F200-61A3-4E81-ACFA-2E2E84B3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79E6-127A-4072-822D-27F5ABCD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9714-3D63-45FB-8881-7623FF33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EE8EAB-39AC-467C-A5CF-0E10544B84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