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00208"/>
        <c:axId val="84060719"/>
      </c:barChart>
      <c:catAx>
        <c:axId val="28600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0719"/>
        <c:crosses val="autoZero"/>
        <c:auto val="1"/>
        <c:lblAlgn val="ctr"/>
        <c:lblOffset val="100"/>
        <c:noMultiLvlLbl val="0"/>
      </c:catAx>
      <c:valAx>
        <c:axId val="84060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0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5A3-5983-4DAA-9E2C-B62FECA1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3AF-D08D-44D1-9FF0-2F8A3D4E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184-8EC4-4B2A-A129-6D39DEE5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CE4-3F64-43FC-91A0-FBFE749C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331-F6B1-4E5A-97DF-6C5107B8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DE9-C410-4929-B0EF-1BAE44A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8BD-84B7-498C-BB09-516C435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85B-956C-4F03-B40F-9DF52E7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0E6-A250-4B3C-9B40-928A897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89E-200B-49C7-9141-5D069F7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D93-AC89-40EA-B986-7894B1D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EDF-229F-4F97-8C41-A019CC34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7F81B-79C8-469E-8DE6-39F5F2E11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