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591083"/>
        <c:axId val="29819604"/>
      </c:barChart>
      <c:catAx>
        <c:axId val="44591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19604"/>
        <c:crosses val="autoZero"/>
        <c:auto val="1"/>
        <c:lblAlgn val="ctr"/>
        <c:lblOffset val="100"/>
        <c:noMultiLvlLbl val="0"/>
      </c:catAx>
      <c:valAx>
        <c:axId val="298196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591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7D1B-2FDA-4BFB-B63B-81EDC3428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6D21-5C6B-4F3F-BEE5-79804C9D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F913-90FA-499C-AE8D-A0F4F91B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685D-357F-4F7A-97B2-9528DA5C3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2C69-052E-4227-9A93-D54C49666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6415-8523-497C-A68B-254FF202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F670-009B-4168-BD2A-EB46892CA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6F88-9912-402F-A74B-D680287D8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0955-A2F0-437B-A49F-F8F138976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F8AA-E410-420B-BB7B-F4AC5A8B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2FF5-8389-4BE1-9C99-427785BFF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DD0-FF36-4223-8CC5-9B311F2B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B1BD61-7E21-44CA-A753-C87F051138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