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581679"/>
        <c:axId val="53828076"/>
      </c:barChart>
      <c:catAx>
        <c:axId val="275816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828076"/>
        <c:crosses val="autoZero"/>
        <c:auto val="1"/>
        <c:lblAlgn val="ctr"/>
        <c:lblOffset val="100"/>
        <c:noMultiLvlLbl val="0"/>
      </c:catAx>
      <c:valAx>
        <c:axId val="538280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5816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65B3-9436-4A0D-808C-C228DE4F1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6407-38B2-4982-AEA9-3BEBDD75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A21D-FBB9-486E-A928-5ED65BF15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E899-7BB6-4781-90DE-8ECC45F8B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D064-F0C2-455A-A244-0E78C01D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FD90-9991-4135-B7CA-5F945E64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BEC6-1F94-4426-9981-FECE5547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1F4B-5378-4539-8E24-27BB7D73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7140-E766-407B-98B8-D45EB8A5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0BEB-5C49-4F99-AA6C-80756023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F8F9-D1DF-4FC0-A662-FB262224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BE23-8A64-4190-AE51-C3CD302A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EF63B-483C-432F-9D80-DA3168F66D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