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37995"/>
        <c:axId val="38445286"/>
      </c:barChart>
      <c:catAx>
        <c:axId val="822379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45286"/>
        <c:crosses val="autoZero"/>
        <c:auto val="1"/>
        <c:lblAlgn val="ctr"/>
        <c:lblOffset val="100"/>
        <c:noMultiLvlLbl val="0"/>
      </c:catAx>
      <c:valAx>
        <c:axId val="38445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379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2D-2356-4193-BF07-1E2B8750A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B693-82F7-4948-ACCC-7A4B1867D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28DA-A290-4110-BBE5-26035AA3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E69D-3D31-4913-8195-8DCA072D7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F03-84EB-4F20-AA08-BA56D92C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5B22-992B-40A5-BC48-07DA415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C9A9-989E-44A2-BD3F-7B5E28BE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62B3-EE9A-41A7-AAC7-5D204667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206D-3DBB-4CCA-B266-96017BEF2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57A-38D2-405F-A9C6-9D6E72AAB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0455-0B44-4CC5-AE77-8C88F6709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8606-4786-4782-BD21-908F7F61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A0521-D85F-4CAE-B9B9-2DED36D13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