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170842"/>
        <c:axId val="17941082"/>
      </c:barChart>
      <c:catAx>
        <c:axId val="461708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41082"/>
        <c:crosses val="autoZero"/>
        <c:auto val="1"/>
        <c:lblAlgn val="ctr"/>
        <c:lblOffset val="100"/>
        <c:noMultiLvlLbl val="0"/>
      </c:catAx>
      <c:valAx>
        <c:axId val="179410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708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4B1B-0683-4581-87F4-FDC339F5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1F8-DAF5-4B8F-841E-56900141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AC4A-ED44-4CB0-883D-B53664D7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5A3-764E-4924-859C-ECC55FF9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D58E-0CC8-4779-9A68-2FBD6E68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0DEA-EE0E-4FDB-BDEC-7AE98E34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A754-05E5-4E8C-A1EB-302CBCBD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708A-9410-4858-8BD3-FC758A7D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E622-E969-4E36-BDB5-6BBB2AC1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B7D0-905D-4B02-8207-90441270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02B4-C40A-479B-8F33-91A27D59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4FF8-38CE-473F-AF1F-8212878B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A3C1D-D164-463B-8177-A7B8A31708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