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37698"/>
        <c:axId val="64811"/>
      </c:barChart>
      <c:catAx>
        <c:axId val="75937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11"/>
        <c:crosses val="autoZero"/>
        <c:auto val="1"/>
        <c:lblAlgn val="ctr"/>
        <c:lblOffset val="100"/>
        <c:noMultiLvlLbl val="0"/>
      </c:catAx>
      <c:valAx>
        <c:axId val="64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37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2BD-F3F3-479A-B054-787E2BF1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109-B5EF-436F-8DEE-6005CA03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D19-402A-4AA5-AB6D-07AE644B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EFB-43BF-459A-88CD-C7F4691F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68F-019A-4C4D-BEE0-E73E7E8A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841-E830-4D5A-A471-322C7A80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9B9-E0F7-426A-BD0A-91080F97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1D8-9F53-4CEF-94B0-24AEC1D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E24-B940-475B-959C-1E2F2D0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146-65C2-4A69-A855-B9176699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17B-4040-43CD-81F3-22AB345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F8A-8C86-49D6-B330-31F1A20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2DA85-B0FE-44EF-B582-F5EE4D1959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