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0220"/>
        <c:axId val="27027544"/>
      </c:barChart>
      <c:catAx>
        <c:axId val="7660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7544"/>
        <c:crosses val="autoZero"/>
        <c:auto val="1"/>
        <c:lblAlgn val="ctr"/>
        <c:lblOffset val="100"/>
        <c:noMultiLvlLbl val="0"/>
      </c:catAx>
      <c:valAx>
        <c:axId val="27027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0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ADA-571D-45A8-9C35-29975C1F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1B4-3E89-4517-A208-CBFA6D81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09F-E031-47B1-84D6-799ACDAB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C80-C536-4406-97EE-D92A1646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214-558C-4F5B-8C94-B74A0D6B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D04-D804-4622-BAAC-98C686CD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2B9-0253-4BCB-A777-B96B463B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3BE-ACE5-40FB-9842-F99B1A6F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79B-A458-4D0C-B57E-9691B21B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B45-9BF8-4D87-A28B-DFF9795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3FC-8900-4C02-AD6C-123A199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7EF-8476-4173-8724-4C58B383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54B6D-44F4-4182-B057-0992F8DCE9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