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792630"/>
        <c:axId val="94246263"/>
      </c:barChart>
      <c:catAx>
        <c:axId val="807926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246263"/>
        <c:crosses val="autoZero"/>
        <c:auto val="1"/>
        <c:lblAlgn val="ctr"/>
        <c:lblOffset val="100"/>
        <c:noMultiLvlLbl val="0"/>
      </c:catAx>
      <c:valAx>
        <c:axId val="942462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7926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C53C-0BAC-48B1-9E5A-085CC213B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D1AA-7992-4156-B289-276C44BB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56A9-02C4-42D3-A878-B929160F4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7920-8E3C-4F81-836E-694BD0367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1365-4886-4F43-B88A-D3D529C5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1DE7-A6AB-40F9-BA18-61FF177D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53AB-5C7D-44FB-9A3B-C32EF3FB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E5F2-ED07-43DF-B55B-ECF40F01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3C4D-CC86-416B-8CBE-754ECC2E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51DD-B12E-4470-BCA3-C42C7AAB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74B7-323D-4492-960E-0326F7B9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F0C9-A2E6-45CC-B40D-0496AD4B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8E09BA-127B-46E1-BB2A-7A186BCDAD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