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7A4F4-9122-4583-A6BD-06B1AC0E5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837BC-6E91-4AEA-B7A1-CBC73476F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5B344-481C-49D2-B799-1075456EF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45ECF-6855-4D62-9A09-A3B599210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F7785-8A5C-48CE-9652-8C912D03D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DEEF9-9B7B-4CAB-96EA-B7AB45953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2F1E2-610A-43F3-A321-38E79D5F6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FE85C-4D3C-49F2-9702-088340364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2268C-51D4-4CC0-A36B-196CA8B28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B2BE1-47CB-4187-8DA1-693E045CB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A6F14-7981-4035-854D-C31948365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BE1C7-DB8B-4971-96DA-33B4A9DC7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FC9D2-5767-44F8-8F38-DAC34C7D95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19200" y="1400040"/>
          <a:ext cx="6105600" cy="405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9200" y="1400040"/>
                    <a:ext cx="610560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3:31Z</dcterms:created>
  <dc:creator>Oliver Craemer</dc:creator>
  <dc:description/>
  <dc:language>en-US</dc:language>
  <cp:lastModifiedBy>Oliver Craemer</cp:lastModifiedBy>
  <dcterms:modified xsi:type="dcterms:W3CDTF">2005-01-06T09:23:42Z</dcterms:modified>
  <cp:revision>1</cp:revision>
  <dc:subject/>
  <dc:title>Slide 1</dc:title>
</cp:coreProperties>
</file>