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69645"/>
        <c:axId val="53655289"/>
      </c:barChart>
      <c:catAx>
        <c:axId val="66069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55289"/>
        <c:crosses val="autoZero"/>
        <c:auto val="1"/>
        <c:lblAlgn val="ctr"/>
        <c:lblOffset val="100"/>
        <c:noMultiLvlLbl val="0"/>
      </c:catAx>
      <c:valAx>
        <c:axId val="53655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69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4DB-88DE-4A17-A464-EA4605DA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4CF-ADA1-44EF-A96A-1FF46F8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C74-C449-4477-ACE4-8E815A9B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A42-68E3-43C7-B66B-A9969E80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AAE-5EBD-44BD-95EE-5FE312C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5E0-3DE0-48F4-8567-BA86B36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B77-CC3C-44FA-AC48-A43BA6C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013-2F58-4880-95C3-69F13D86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00E-F1CD-4166-B528-E7D9E9D0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5CB-4C3D-41B4-BAC0-32ACDA3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660-AEBE-4E45-80C8-92A532D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329-06AD-4CE0-BA7E-740A72F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A8A75-1FAC-40A4-AD1E-C5FB22D81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