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4063"/>
        <c:axId val="12964575"/>
      </c:barChart>
      <c:catAx>
        <c:axId val="4264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64575"/>
        <c:crosses val="autoZero"/>
        <c:auto val="1"/>
        <c:lblAlgn val="ctr"/>
        <c:lblOffset val="100"/>
        <c:noMultiLvlLbl val="0"/>
      </c:catAx>
      <c:valAx>
        <c:axId val="12964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4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9FC-E8F4-4329-BA33-9B90CB59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F7F-124E-4C71-8DAB-8688B5BE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65D-C95F-4329-9308-EF9C79D5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876-B7C1-4497-8FF3-1A61C841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45C-F7B1-4A1D-9BE6-66FEBB10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A90-8CD6-431A-9915-302728FF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047-15B8-499C-893F-03EE1567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FA6-20CD-4694-8223-B6A2E1A6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396-9A0C-4F9C-91FA-BD74A3EA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362-1F8A-4FB4-950F-55E00488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94C-790B-49E8-832F-F20BB30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FFA-3744-447F-96AF-A921625A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0F07C-CFCA-4796-9891-42BF81FB89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