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43185"/>
        <c:axId val="91115113"/>
      </c:barChart>
      <c:catAx>
        <c:axId val="63143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15113"/>
        <c:crosses val="autoZero"/>
        <c:auto val="1"/>
        <c:lblAlgn val="ctr"/>
        <c:lblOffset val="100"/>
        <c:noMultiLvlLbl val="0"/>
      </c:catAx>
      <c:valAx>
        <c:axId val="91115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43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523-8847-4E81-9E22-9BE399C7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96B-1F49-479A-AEA0-3E7C139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538-5048-41D9-B7E0-C70088E2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D71-9096-4461-8195-3D84A4E5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C44-4886-4239-B897-7685C603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80E-03EE-47E3-B11C-B9AB9A5C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8E2-ED16-4F3C-9BDC-77FB4370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EB8-11E8-4D5C-95E9-C85F4252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5AE-14F9-402E-89A6-CC7DC472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A03-9006-4BF6-8E1A-06D83C4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F80-5C96-4C4E-9578-860BC9F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5C8-DA30-4234-B26F-A8F33B37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EE1DE-606A-4F89-8596-C1F5D90B7D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