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22865"/>
        <c:axId val="53837768"/>
      </c:barChart>
      <c:catAx>
        <c:axId val="74922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7768"/>
        <c:crosses val="autoZero"/>
        <c:auto val="1"/>
        <c:lblAlgn val="ctr"/>
        <c:lblOffset val="100"/>
        <c:noMultiLvlLbl val="0"/>
      </c:catAx>
      <c:valAx>
        <c:axId val="53837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22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866-3C3A-475C-B6E7-FE9706D9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B9B-EAA5-45A4-94D0-BC57E3B2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A48-75EE-44AC-94E5-24D8F77D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1BA-1C41-4026-BBA1-C0614B3D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4AE-194B-41D8-A8F5-FBB72E34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2D5-682E-4891-A38F-053953D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823-BA5F-4B2B-9274-7C6913F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47D-ACAD-4F18-81DB-446598D6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51-F7B0-484A-871F-9208E249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D74-CD6D-42F3-9CC9-24DAE6C1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A7D-81E5-40EC-B1E6-AB9B4D25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10A-B521-47E1-92DA-68EABCD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E524-782D-439F-BDD3-FEEAC3016E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