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06303"/>
        <c:axId val="34720606"/>
      </c:barChart>
      <c:catAx>
        <c:axId val="35806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20606"/>
        <c:crosses val="autoZero"/>
        <c:auto val="1"/>
        <c:lblAlgn val="ctr"/>
        <c:lblOffset val="100"/>
        <c:noMultiLvlLbl val="0"/>
      </c:catAx>
      <c:valAx>
        <c:axId val="34720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06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811-9C84-427A-ADDB-2F4D392B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833-52CE-440D-A5CD-0A429F4C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36D-B568-4737-96B0-F88D4D2E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B09-BABF-4552-B2A6-B263A307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6FB-0E2D-4EB0-AE11-1F8BB8C8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70E-F34B-426D-AC22-F3C81C12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940-726F-46E6-95A5-DACD75CD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84C-5828-4D84-9A0A-D8878449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419-CD19-4077-880D-AF05E2E2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8F0-DC45-4D71-9FAD-A6B587D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F59-492E-4A8C-8E69-9577EC3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C72-5580-4613-9B92-9A383787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FE234-790B-410B-BB4A-C44DDFFDBD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