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5475881"/>
        <c:axId val="41937780"/>
      </c:barChart>
      <c:catAx>
        <c:axId val="2547588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937780"/>
        <c:crosses val="autoZero"/>
        <c:auto val="1"/>
        <c:lblAlgn val="ctr"/>
        <c:lblOffset val="100"/>
        <c:noMultiLvlLbl val="0"/>
      </c:catAx>
      <c:valAx>
        <c:axId val="4193778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47588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5F465-9D8F-40E3-8854-202469A4C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4B2A4-8CF9-4F69-8A4C-83E032630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B039A-3110-40C1-B2A3-8BE327D13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656F6-2516-4F0B-96A9-C35C20676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B0351-5041-4291-A852-085D22C65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E9ECD-E9C9-4B98-A54E-7A1629438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B0598-B4F4-4F02-AFE3-180FB15CD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6E140-0C9E-4214-A308-32265058E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C6FDE-B4B3-4209-A2F7-253F8829A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292BD-9D79-436B-B3E3-C35FDABBC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69EC4-58F0-4608-A0DE-68AC76BAF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A741C-F686-4F18-A214-77432B564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1FCFC4-C258-497A-ABD5-1213AF843F5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