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959876"/>
        <c:axId val="55719530"/>
      </c:barChart>
      <c:catAx>
        <c:axId val="359598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19530"/>
        <c:crosses val="autoZero"/>
        <c:auto val="1"/>
        <c:lblAlgn val="ctr"/>
        <c:lblOffset val="100"/>
        <c:noMultiLvlLbl val="0"/>
      </c:catAx>
      <c:valAx>
        <c:axId val="557195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598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1373-7F2A-47A2-B1B4-2B514582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CDFB-CDAF-4588-9CD9-73153E80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A9F-B831-4DFA-A98E-24D7C2E0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668-226E-453C-928F-F393D6C5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32E8-A030-4E02-9249-E5FC3157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49A-2E40-4B8F-ABDA-2138D11E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080F-6691-42EE-9C7E-57968379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196F-44EA-4689-AB9D-44AB8ED2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0D7-2FD4-450C-AC8F-4169254D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5C1-9EE2-4839-80DD-D1EE5201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17C0-BB02-4DAB-8057-F6FFC954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E705-E2F6-4426-A6E4-45AB46E7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0CD03-D0D4-4C78-BC33-5450003B72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